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DB02-8ECB-4387-8A6F-05E7B9B22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E68D-92CC-4F76-9FA7-67A1CF9AE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20 minutes, including discussion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E8F0-FFAF-4661-B048-4EE456A60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816B-13E3-4DD3-B3E3-415773DF6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DE3E-9264-4510-90CB-92BF10292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e need categories for this – content/process perhaps (allowing choice of difficulty with content, choice of tool/process for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 selects one or two solutions from each category, depending on time, to discus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gle to next slide to prompt thinking further around links to big ideas.</a:t>
            </a: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7A5B-4470-411B-B5CE-9CD2AADD1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AE20-4FB5-49B4-9A22-92F06B4CC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D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could insert slides of graphics of the Important Book, Anticipation Guide, Exit Card (or no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ayer Model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t Book – 3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ion Guide – 1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utes</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1B2D-BA0B-4178-B1F3-33EC4653D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E017C-7C89-4927-8828-381C789C4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5FE9D-3B1F-4D09-BB4A-A33317D2C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3A15B-75CF-409E-A55F-28927EE52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D7816-360C-461C-A73E-10A3975A7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E5D7F-6F55-4F16-9072-25285497E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A8D52-607F-4590-B11D-C6FC448DF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DF792-C82B-4914-8AEB-916FFB0EB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86E40-156B-4278-9871-20C1223F4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53142-8DFA-42F4-80A5-2FECE3A78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E460D-861C-4B25-9C82-6D35464DA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26081-1FAF-46E3-AAE2-6D495FAB8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AAFA9-830B-4608-8D9A-C11238C01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2125B-E2F1-48FD-9563-E5A2BD36E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6607F-6E59-40DF-8AB8-A7FF76A55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C3D62-3B55-4AC6-88E6-4628381E0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7EC4A-0279-40E0-8574-0E26BBF16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B0851-5F19-419C-8A29-8E33572A8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8AC86-56BA-4E3E-A512-BA1421B7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6F6E-E6C2-4C25-AC49-AFBDEFAA7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E602-31A9-4871-9649-F1D8DFD36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ABC0C-4678-45FA-939A-5C25D71FB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8EC10-989E-4217-95AB-5A9996FE9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6DBF-784F-467E-9AEE-10D7F4983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2A0D-E6F0-4CE3-BAEE-661EA9631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411F-5A8F-46FC-8C44-09A2014080D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ADD1-8A80-4761-B0E7-C3B48FFC409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acking Open a Can of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cessary precision in alignment of assessment and instruction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multiple methods and opportunities for assessment </a:t>
            </a:r>
            <a:r>
              <a:rPr b="1" lang="en-CA" sz="2800" spc="-1" strike="noStrike">
                <a:solidFill>
                  <a:srgbClr val="000000"/>
                </a:solidFill>
                <a:latin typeface="Arial"/>
              </a:rPr>
              <a:t>for </a:t>
            </a:r>
            <a:r>
              <a:rPr b="0" lang="en-CA" sz="2800" spc="-1" strike="noStrike">
                <a:solidFill>
                  <a:srgbClr val="000000"/>
                </a:solidFill>
                <a:latin typeface="Arial"/>
              </a:rPr>
              <a:t>learning and assessment </a:t>
            </a:r>
            <a:r>
              <a:rPr b="1" lang="en-CA" sz="2800" spc="-1" strike="noStrike">
                <a:solidFill>
                  <a:srgbClr val="00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e their understanding of the big ideas for quadr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graphic he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357120" y="1571760"/>
            <a:ext cx="835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How did</a:t>
            </a:r>
            <a:r>
              <a:rPr b="0" lang="en-CA" sz="4800" spc="-1" strike="noStrike">
                <a:solidFill>
                  <a:srgbClr val="990099"/>
                </a:solidFill>
                <a:latin typeface="Garamond"/>
              </a:rPr>
              <a:t>	</a:t>
            </a:r>
            <a:r>
              <a:rPr b="0" lang="en-CA" sz="4800" spc="-1" strike="noStrike">
                <a:solidFill>
                  <a:srgbClr val="990099"/>
                </a:solidFill>
                <a:latin typeface="Garamond"/>
              </a:rPr>
              <a:t>Why did</a:t>
            </a:r>
            <a:r>
              <a:rPr b="0" lang="en-CA" sz="4800" spc="-1" strike="noStrike">
                <a:solidFill>
                  <a:srgbClr val="990099"/>
                </a:solidFill>
                <a:latin typeface="Garamond"/>
              </a:rPr>
              <a:t>	</a:t>
            </a:r>
            <a:r>
              <a:rPr b="0" lang="en-CA" sz="4800" spc="-1" strike="noStrike">
                <a:solidFill>
                  <a:srgbClr val="990099"/>
                </a:solidFill>
                <a:latin typeface="Garamond"/>
              </a:rPr>
              <a:t>Did</a:t>
            </a: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lesson goal?      the big ide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big idea and regroup accord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topic within the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ainstorm on what prior knowledge you would want to ass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n open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e students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instructional strategies which respond to indicated student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 Part 2</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uster open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this open task be used for:</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structio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for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of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as learn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3"/>
          <p:cNvSpPr/>
          <p:nvPr/>
        </p:nvSpPr>
        <p:spPr>
          <a:xfrm>
            <a:off x="357120" y="1571760"/>
            <a:ext cx="835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How did</a:t>
            </a:r>
            <a:r>
              <a:rPr b="0" lang="en-CA" sz="4800" spc="-1" strike="noStrike">
                <a:solidFill>
                  <a:srgbClr val="990099"/>
                </a:solidFill>
                <a:latin typeface="Garamond"/>
              </a:rPr>
              <a:t>	</a:t>
            </a:r>
            <a:r>
              <a:rPr b="0" lang="en-CA" sz="4800" spc="-1" strike="noStrike">
                <a:solidFill>
                  <a:srgbClr val="990099"/>
                </a:solidFill>
                <a:latin typeface="Garamond"/>
              </a:rPr>
              <a:t>Why did</a:t>
            </a:r>
            <a:r>
              <a:rPr b="0" lang="en-CA" sz="4800" spc="-1" strike="noStrike">
                <a:solidFill>
                  <a:srgbClr val="990099"/>
                </a:solidFill>
                <a:latin typeface="Garamond"/>
              </a:rPr>
              <a:t>	</a:t>
            </a:r>
            <a:r>
              <a:rPr b="0" lang="en-CA" sz="4800" spc="-1" strike="noStrike">
                <a:solidFill>
                  <a:srgbClr val="990099"/>
                </a:solidFill>
                <a:latin typeface="Garamond"/>
              </a:rPr>
              <a:t>Did</a:t>
            </a: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lesson goal?       the big ide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Debrief</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yer Model – revisit the group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mportant Book – update the quadratic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ion Guide – complete the post colum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it Card – complete and sub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09-07-19T19:11:22Z</dcterms:modified>
  <cp:revision>131</cp:revision>
  <dc:subject/>
  <dc:title>Slide 1</dc:title>
</cp:coreProperties>
</file>